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C18D-7FA5-412A-ACE3-883D6D4D1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4F0D-8873-46E8-9C0E-B5F3A1B3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0D46-B978-4896-ADD2-AC5728C1D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0EE7-7624-4721-987D-15B547B31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BCF87-3D28-4A02-AD20-9082FF28F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039D-4DE9-45CA-9835-8CA51C6B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25A0-8CDD-4EAB-9FB1-036F33B6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6547-416A-4314-9CE6-49124DF3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E2F71-FE9D-4EF5-8F91-5D31DF1B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A7D22-7979-4E72-AF40-37498711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A48B2-AE6D-4C1C-A1C5-8F1198AE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775C-6205-4620-9E8E-1499F901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032C-BEB0-4F37-B6B4-F02B7F48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44FE-D9B6-42B2-AD2B-FECE613D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A915-AF68-4317-BD86-328CB30D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48BB-3213-42D1-B5AB-C3B09399B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EF42-2970-4C59-9C19-6249C640C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7F60-21E6-4E99-9CF9-00488904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1E5A-5D09-4764-81B1-B72C87D8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B2DF-373C-4531-B71C-E675072A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E6C5-3BB4-462F-AE09-CF2CDA69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5AC2-0DB7-4160-9553-1E514DC8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1B1C-27EF-4D3B-93E7-29D611E1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6AFA-98EF-4207-BBF5-06E874D4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e375"/>
            </a:gs>
            <a:gs pos="100000">
              <a:srgbClr val="3358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a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a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a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e375"/>
                  </a:gs>
                  <a:gs pos="100000">
                    <a:srgbClr val="5896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e375"/>
                  </a:gs>
                  <a:gs pos="100000">
                    <a:srgbClr val="5896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e375"/>
                  </a:gs>
                  <a:gs pos="100000">
                    <a:srgbClr val="5896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e375"/>
                  </a:gs>
                  <a:gs pos="100000">
                    <a:srgbClr val="5896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e375"/>
                  </a:gs>
                  <a:gs pos="100000">
                    <a:srgbClr val="5896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e375"/>
                  </a:gs>
                  <a:gs pos="100000">
                    <a:srgbClr val="5896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e375"/>
                  </a:gs>
                  <a:gs pos="100000">
                    <a:srgbClr val="5896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e375"/>
                  </a:gs>
                  <a:gs pos="100000">
                    <a:srgbClr val="5896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e375"/>
                  </a:gs>
                  <a:gs pos="100000">
                    <a:srgbClr val="5896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e375"/>
                  </a:gs>
                  <a:gs pos="100000">
                    <a:srgbClr val="5896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e375"/>
                  </a:gs>
                  <a:gs pos="100000">
                    <a:srgbClr val="5896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e375"/>
                  </a:gs>
                  <a:gs pos="100000">
                    <a:srgbClr val="5896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e375"/>
                  </a:gs>
                  <a:gs pos="100000">
                    <a:srgbClr val="5896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a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a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85e375"/>
                </a:gs>
                <a:gs pos="100000">
                  <a:srgbClr val="7cd4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85e3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85e3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85e375"/>
                </a:gs>
                <a:gs pos="100000">
                  <a:srgbClr val="7cd4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85e3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85e3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85e3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85e3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85e3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85e3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85e3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85e3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85e3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4184-5C1B-4507-B075-2E619FEEB67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e7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ce8a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e375"/>
            </a:gs>
            <a:gs pos="100000">
              <a:srgbClr val="3358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8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a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a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a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e375"/>
                  </a:gs>
                  <a:gs pos="100000">
                    <a:srgbClr val="5896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e375"/>
                  </a:gs>
                  <a:gs pos="100000">
                    <a:srgbClr val="5896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e375"/>
                  </a:gs>
                  <a:gs pos="100000">
                    <a:srgbClr val="5896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e375"/>
                  </a:gs>
                  <a:gs pos="100000">
                    <a:srgbClr val="5896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e375"/>
                  </a:gs>
                  <a:gs pos="100000">
                    <a:srgbClr val="5896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e375"/>
                  </a:gs>
                  <a:gs pos="100000">
                    <a:srgbClr val="5896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e375"/>
                  </a:gs>
                  <a:gs pos="100000">
                    <a:srgbClr val="5896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e375"/>
                  </a:gs>
                  <a:gs pos="100000">
                    <a:srgbClr val="5896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e375"/>
                  </a:gs>
                  <a:gs pos="100000">
                    <a:srgbClr val="5896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e375"/>
                  </a:gs>
                  <a:gs pos="100000">
                    <a:srgbClr val="5896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e375"/>
                  </a:gs>
                  <a:gs pos="100000">
                    <a:srgbClr val="5896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e375"/>
                  </a:gs>
                  <a:gs pos="100000">
                    <a:srgbClr val="5896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e375"/>
                  </a:gs>
                  <a:gs pos="100000">
                    <a:srgbClr val="5896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a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a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85e375"/>
                </a:gs>
                <a:gs pos="100000">
                  <a:srgbClr val="7cd4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85e3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85e3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85e375"/>
                </a:gs>
                <a:gs pos="100000">
                  <a:srgbClr val="7cd4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85e3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85e3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85e3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85e3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85e3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85e3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85e3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85e3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85e3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A804-5DE3-4710-8429-01FDB5E22B8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meminichiello@milforded.org" TargetMode="External"/><Relationship Id="rId2" Type="http://schemas.openxmlformats.org/officeDocument/2006/relationships/hyperlink" Target="http://ce-wiki.wikispaces.com/The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e375"/>
            </a:gs>
            <a:gs pos="100000">
              <a:srgbClr val="3358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2008 Computers in Libraries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uilding Dynamic Web Environments-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vercoming Restric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ary Ellen Minichiell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Joseph A. Foran High Scho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ilford, C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e375"/>
            </a:gs>
            <a:gs pos="100000">
              <a:srgbClr val="3358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133720" y="0"/>
            <a:ext cx="58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eachers look for new books on new technology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e375"/>
            </a:gs>
            <a:gs pos="100000">
              <a:srgbClr val="3358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Comic Sans MS"/>
              </a:rPr>
              <a:t>Web 2.0 Concerns</a:t>
            </a:r>
            <a:r>
              <a:rPr b="0" lang="en-US" sz="4400" spc="-1" strike="noStrike">
                <a:solidFill>
                  <a:srgbClr val="3366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iability Issu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ecurity Issu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afety  Issu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e375"/>
            </a:gs>
            <a:gs pos="100000">
              <a:srgbClr val="3358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400" spc="-1" strike="noStrike">
                <a:solidFill>
                  <a:srgbClr val="ffffcc"/>
                </a:solidFill>
                <a:latin typeface="Comic Sans MS"/>
              </a:rPr>
              <a:t>Teacher Concerns with 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1" lang="en-US" sz="4400" spc="-1" strike="noStrike">
                <a:solidFill>
                  <a:srgbClr val="ffffcc"/>
                </a:solidFill>
                <a:latin typeface="Comic Sans MS"/>
              </a:rPr>
              <a:t>Collaboration on the web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: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ime restrain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pace restrain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ccess to comput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e375"/>
            </a:gs>
            <a:gs pos="100000">
              <a:srgbClr val="3358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Advantages to sharing student work on line: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llaboration with other students and adul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udent Independe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udent Responsibility for their own learn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e375"/>
            </a:gs>
            <a:gs pos="100000">
              <a:srgbClr val="3358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ontact Information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meminichiello@milforded.or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wiki page will have all of our presentations as well as relevant websites for you to view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http://ce-wiki.wikispaces.com/The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Internetatschoolseast+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Presentation++Wik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e375"/>
            </a:gs>
            <a:gs pos="100000">
              <a:srgbClr val="3358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e375"/>
            </a:gs>
            <a:gs pos="100000">
              <a:srgbClr val="3358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e375"/>
            </a:gs>
            <a:gs pos="100000">
              <a:srgbClr val="3358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Comic Sans MS"/>
              </a:rPr>
              <a:t>The Many Hats of a Library Media Specialist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39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eacher: collabor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ource  for Technology concer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dvocate for all students having interesting reading materia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ource for First Amendment and copyrigh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valuator of books and websites for student us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172200" y="914400"/>
            <a:ext cx="182880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e375"/>
            </a:gs>
            <a:gs pos="100000">
              <a:srgbClr val="3358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Comic Sans MS"/>
              </a:rPr>
              <a:t>Library Media Center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cddrive"/>
          <p:cNvSpPr/>
          <p:nvPr/>
        </p:nvSpPr>
        <p:spPr>
          <a:xfrm>
            <a:off x="6553080" y="2895480"/>
            <a:ext cx="1752840" cy="8384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581280" y="1905120"/>
            <a:ext cx="2422800" cy="16239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477120" y="4495680"/>
            <a:ext cx="1815840" cy="1689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1219320" y="3505320"/>
            <a:ext cx="1815840" cy="17492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3886200" y="3733920"/>
            <a:ext cx="167328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e375"/>
            </a:gs>
            <a:gs pos="100000">
              <a:srgbClr val="3358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782040" cy="5086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060800" y="677880"/>
            <a:ext cx="892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30492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ur Library Media Center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e375"/>
            </a:gs>
            <a:gs pos="100000">
              <a:srgbClr val="3358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705720" cy="5029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09480" y="1522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mputer area of our media cen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e375"/>
            </a:gs>
            <a:gs pos="100000">
              <a:srgbClr val="3358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289400" y="601560"/>
            <a:ext cx="7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22860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e still have  books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e375"/>
            </a:gs>
            <a:gs pos="100000">
              <a:srgbClr val="3358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981080" y="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ots of books!! They are still the primary source for researc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e375"/>
            </a:gs>
            <a:gs pos="100000">
              <a:srgbClr val="3358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705720" cy="50292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981080" y="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udents use the media center for study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e375"/>
            </a:gs>
            <a:gs pos="100000">
              <a:srgbClr val="3358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467480" cy="56008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219320" y="380880"/>
            <a:ext cx="66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09680" y="0"/>
            <a:ext cx="52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udents use the media center for web resear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1:58:19Z</dcterms:created>
  <dc:creator>Milford Public Schools</dc:creator>
  <dc:description/>
  <dc:language>en-US</dc:language>
  <cp:lastModifiedBy>Milford Public Schools</cp:lastModifiedBy>
  <dcterms:modified xsi:type="dcterms:W3CDTF">2008-04-04T17:38:28Z</dcterms:modified>
  <cp:revision>17</cp:revision>
  <dc:subject/>
  <dc:title>Slide 1</dc:title>
</cp:coreProperties>
</file>